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4C4-4DE4-452D-8E86-3AA84D0F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0A3F-018E-4C3E-9D97-A75F0F16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1E469-D8A8-4335-8C3A-7390918C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C3CBD-E4BB-401C-BFAA-B97F0576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2C616-6E32-4ACC-BEFF-B2EAE371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AB8EF-62AD-4C24-B91C-2E4415EA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1750B-7A1F-41D9-9795-D2912229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EC324-F059-46BF-9EE9-72BB4F40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44C75-16A3-46FD-89F5-E4B65CE6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82F9C-41A4-4E6C-8D19-F9FF90C8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96CCA-B8AA-48C3-A463-72DE3099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1E190-0061-438B-BB79-0FA2A9E9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98A5-68F3-4E72-B0AE-60EEBF4A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D847D-5033-4D12-9E43-08581626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76D43-E8B3-4DDA-B280-4F840F53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746D4-9334-4D5C-B662-789A11A5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2F69E-19A9-4E00-990F-A3A1B22F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CBA5E-B3B2-415A-897A-710B6CAE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EE49D-0AC0-45D4-B86E-7E1C4BD7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0CC20-C1F4-4F67-A106-3E4D93D9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07010-68CD-4294-97F0-55444B16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C3EDE-D063-44EF-918F-4A2C5FE0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ABE69-D3BD-490D-B9E7-44E2FD1A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3DF-DBAC-493D-869C-93BD78C8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C3A3C-A929-4868-9BD1-949A7E4E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B8B27-9466-46C7-909A-AE42DC1F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374FA-C6D1-4890-8820-8CC73B5E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9626B-0D0A-466A-846C-2C2AA4D3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D3731-1188-47FA-96D6-38D4412F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0A724-28D8-4974-BDB7-C2E133F9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6D8A4-1E59-4DD8-B51E-E2FAAB0D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350BD-E4E2-43A9-B28D-53CFC610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5B4F1-A3F4-4232-9536-9E897F0D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02B75-1E72-4E4C-995E-B5C71B37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E934-6527-48F4-B22F-8B71F716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6F6A6-46DE-44A4-A87A-AC3A942E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87EF7-F999-4650-96D1-ABFB5CA4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29FB7-1542-4CA4-B2EA-A4A9E5C9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3CC27-B9B5-469A-A8A2-A180326D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E9099-4E9C-4F4C-A220-55418003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1D3E0-374C-40B2-BDF7-24771216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D617D-B770-458C-8E58-105CCF96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6B769-92BA-42D3-9122-57514B48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7CBD6-9E6A-47F6-A489-E21B333F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0F942-1FD7-4B67-8B3C-4E872109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E73F-E9BF-4921-8A08-9F62068D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30F3D-D31F-4D51-A6CF-8A064EB5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46223-C70C-42E8-84F2-FAF6253C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9CB8D-1AB1-4805-B134-229474F4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FBD79-D407-47BF-BAAA-E8171CB0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0A3B6-3843-4322-B980-A9A5D6D1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9E43FC-767C-4420-9811-03D75E43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FC676-6108-42FE-9DBB-A0E85096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E3CD6-5072-485C-90F1-239433D9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23E4F-502C-4987-B6C6-2567DCFB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DFF1A-21B2-415F-9A2D-1ABC924B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4F85-DAF2-4AEF-B5B4-D72F2B74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D099B-A8D4-4629-9FE1-ECE148AC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9D2A4-3A4B-433D-B290-86FDFD01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F98F2-A91C-47D5-B4EA-B00AD4C8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A6D23-01D3-43E7-8D97-4C293FB0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A20CE-4173-4A17-B22F-6F1335A2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26A4D-9287-400E-86C0-95BC5AAA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DC99F1-E315-4262-B344-2610FBDE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6EE876-6E36-4ACF-83CD-815ED996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E4953E-E238-4826-B66A-770197CA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15F957-CCAE-4D31-B87E-1996CCFE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100A-C15A-4E7E-9EF0-26198B12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C91E5D-0F00-4940-A0D0-6F778226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72610B-B276-4B96-B77A-6755BB40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40E156-9CA8-4C32-8F9D-969F3D17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575DBA-D9AA-49D1-B08D-130C8201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48CD57-E813-4506-8885-57427A37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25E6E9-593E-4E78-BB18-5297E844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AEE254-292D-4E49-A470-DA2FD55E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24537B-6020-4059-B117-AD6A6B46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CE1EC5-538F-423D-AFF8-9F150873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7BABD5-B138-4046-B773-5FA50B08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AFF3-2473-4F5B-A5B6-CD583CDD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0594D3-1D02-4C55-8F0E-E0FC4CCF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DFAB7D-CE28-4CCA-851F-19DBF535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B2A4D5-C2C4-4D51-81F3-DF4135F0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B069DE-F66D-46B0-AA9C-425692D0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538C3B-A021-47BF-AE53-587BFC79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E4CB57-2A79-4567-98E1-B834CFF7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3349E4-3228-4916-ADBD-EF37D614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66D4DB-395E-4AED-AD1F-6D211893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07536C-E30D-40D0-B335-60616C88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2D0D5A-18E3-42B2-A62D-326C214C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5078-29FA-4FA0-B02B-6333CDBA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256152-25E6-4062-91CF-432F461B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2DE766-3ECB-4AE9-9A28-B86D2868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F91FC-2124-4E4C-A166-F5364236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27CCD-6789-469D-B5CE-FEACC56F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12099E-A7D5-4116-B8E9-30888B1B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84A29C-11CD-48F1-8198-79312E02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AFF41F-C23B-4D97-9B82-B00F37F0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E1CF55-B26B-4154-9D0E-5C2883C1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8E74B7-22BD-41AC-9A96-E0EDD592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D1BA16-34F5-4ABA-9F18-9565249B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A3D5-FF1C-4B57-973F-1A905B36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444592-96C9-46AE-B85E-FB180BF2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34F17D-69FC-404A-9F01-1E6CA3D9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AC5A60-971D-4B65-AC07-4568EFFC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781EEF-0B0F-43BD-BF9C-F545FEEE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DF3804-588D-4B54-82E4-116AEB84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A27D7E-C624-4CC3-9F43-34567A85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A967CE-99A7-4893-8618-DDF8CA7C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751B32-3CE7-4BC0-8AC8-DEF93C04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E26A21-AC4D-47C1-97EB-263AD8EC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D8FA73-8A07-44A0-A381-8969708A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664-329D-4BAB-8853-9E6B70C2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1D19-AA6E-439A-9673-6BF1DEA1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B944B0-BB1C-4810-9DA0-CEE59772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D43F7D-043D-4B3A-A30A-905D166A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ABDD6F-2ACC-4423-A039-AE5B35C7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AF011C-ACD4-4D4C-8D25-E046E4F7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41E25F-BCFC-421E-A93A-832E85E2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14CEF9-E4EA-4579-85FF-A1B56DB6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5FEAB4-19A8-4728-8062-0B915C99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B9C727-10EC-405C-9240-ABA4296D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655406-2F76-40EF-AA03-DCDB6AC8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AF2000-F87D-4400-8F7F-85A22CAD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C2BC-8D12-47E3-8DC5-BDB72814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80811A-1BF2-4D4F-95EF-62957A6C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6F4A08-C16B-45F3-8F19-B54BAF28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91EFB8-F350-4224-8942-81E4F777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F7B984-FE5C-4ABA-82B1-9940CD45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05FC54-DC19-4277-8782-56D2B446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80CE62-2DD0-4FD6-9FE1-3A2D09E9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9BB626-ED6B-450F-BF80-738540F9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6CD915-B729-40B6-A1A9-624C3838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28CC9B-46A5-41F8-B63F-6A989F7C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6690B3-9273-47E9-B0A8-BBBDE619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CA2D-14E3-4E2C-86EC-3FA641A7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4458E6-D7B2-4709-B46C-80CF01BA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0746F7-384E-4D3C-93A0-E77B4A8F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B4C3F0-70D1-4DD4-9AC9-8F6BD309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4B33BF-2026-4567-91F8-9099C37C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63099F-60F1-49D8-AB58-DD0C8B83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163CB2-BBE1-4F12-8A96-95F165AF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6BF7A4-FE95-47CA-A8DD-C35C59A8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BD7886-6892-41B3-8C45-0B02664A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95AEC5-E806-4CCF-ACAE-7C9EED94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8ACCCC-C502-49F2-8C43-25255F39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79A9-A132-4E5D-A7E4-DB928C7C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67DC59-0F1F-4FDB-96B0-2119906A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AE4C72-5B18-4F92-ABC6-C1526BC9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B533BE-2CDA-427F-B193-19B1B542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F8564D-AA91-44C5-8B69-1E07A7B8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B5F22E-6724-4C19-8C43-D58DDEC7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9DB3DC-48B8-4398-8232-524C0D63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AFA889-4B43-4902-93DE-7BEDEDF3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10D798-41B2-47A1-BFFE-00BFE1C5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2828CF-112E-4FBE-A1E6-E918A506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67AC81-5284-4BEB-958A-AEF6FD69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2310-69EE-4438-91FC-1659A7A2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BF45E3-F250-48E7-9041-B1AE6DE7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2DD46E-B2DB-4305-B9C1-4F3949D5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19E52B-2D20-4C5F-B393-B9FD3952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0D8AA1-8AD5-435C-885D-153D2AC8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5F7F38-2AE9-4522-983E-F955449D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0E577C-E592-400F-92CA-B57B8E01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698BA0-98FF-48E4-9C71-2E94A482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B12D85-536C-4DE7-BB4F-1E94CB9B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E8615C-1276-4DCE-A3FD-5FF88121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563B9E-BBDC-4125-8F90-33627C30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876C1-5823-44CE-B9C5-9A1003C8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39C137-59A0-4994-8707-BC746AB6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118859-BAA7-4DCB-94F3-BD209566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BF5A62-440B-4653-809D-06E3F182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E2446F-12CA-43B0-87BC-201D7E87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FF0BEC-CBE1-4B6E-8248-CAA088CC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03BEAA-EC13-4DAA-A456-0AC2581B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A04649-1D51-465B-A4E5-FE55844D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10DB22-349F-4A38-BA2E-2543AE21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51AA14-BF21-4806-AE3A-B52A2D83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037FE7-7EA6-4FF6-880E-8B575F4B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60634-4116-4AE8-80CA-5C61468F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4D79D5-809A-47EF-BDC9-C7299F3F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CE15BD-D58F-4BAC-9318-91C69C13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11D99C-92BB-4818-A969-E7CB496A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5D4E00-4D99-4CC7-897B-0E44D2BB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79EADF-319C-4848-8BD5-17DD3F0A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12C601-1D54-41C9-8FD1-3E0D0471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F3137A-173E-4D81-B04D-B7A84894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6CC4C6-ECAE-4DCD-B21B-20E61B39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0818D8-C3D6-46E9-AD6C-4321DC79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672671-6D52-4ECD-B4C3-6F7A8E25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5EBE7-BB8B-4A7B-820E-4A7538B5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6D612E-4993-4DE5-9831-1DF6DEF2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F212E7-1237-44B0-B458-3D417B66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CDADF8-24BF-4447-9A86-40CD2CDA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55CA37-76BB-4DE1-A3EC-2BDCC196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693F8B-4A0C-4D28-AC30-80B3454E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D9644E-EB70-4F1C-B1AB-3FD62686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82A670-C274-40D0-95F5-946FF291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47372-9912-43A0-ADBF-E950BEC6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06D43-9F9E-4B25-A216-066B7B8B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91A-BEA9-479F-8C01-4C0CB8F7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8A22B-B1D7-4924-A40B-E37ABDF5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104E2-9D23-4A87-9C25-35510898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EB1D8-E783-471A-B02E-76180C39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9F0B8-C06A-4ECA-B45F-4F4D8CF6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28914-38DA-4402-BB99-2B5C7EF6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A4B99-A047-49F5-B2F2-82FC2023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A6A9A-D1E1-45AE-A01D-1ABC5D08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38BED-0A1D-479D-8B07-353CF516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3EDE5-63B8-49A9-8592-D9CEA119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36083-2775-4288-BD5F-FCE02957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62E-67A3-466A-B00E-EE69A669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4F2DD-6796-456C-B4B1-1D699F70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A52B3-025D-4F09-AAEE-5B8533B0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B1DC8-0D48-49FE-9DCD-9715A430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BB5CF-D098-4C72-A91C-BD1590F4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CE898-34CA-45F9-B91F-928CA58E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8BDE2-D7C0-446B-B921-BD6AFD5A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EF359-E3A8-4302-85AD-B483F59E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8EC0E-52E2-46DC-8694-1A945768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8C7B0-0301-498B-A2A0-34D6A765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53D70-F058-481B-B9B8-CD9989F6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A4F-E76D-41FD-9564-A3508027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0D669-C5E2-4748-AF23-28E12CE2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932BF-33F9-4183-B630-4859A048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3B61C-5C48-45D1-A63C-50FAD5B0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77CE2-8144-4467-B59B-4938BDC9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AB0F7-F94B-40B7-948A-7516B8F8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1D439-6D02-4269-A3A2-85326CA7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1BE71-084C-43F5-918A-07CD4B17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93CC2-BB8F-409D-83CC-F72F3107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EAE38-8480-4C00-9733-6780CF62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9C957-244B-42A2-8868-2B1F905C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0876-F504-4FC4-A29C-5CC32CA1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0CB59-C460-475E-AC8D-47F85A2A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42FAD-141F-42D3-9AF1-5C0CA417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6DB30-AC21-4EC3-AF66-A66466A2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0B40B-6D14-4494-B67F-D8B61FCD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3A46D-5324-4D1E-82F1-D65C39B9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9C753-A9EE-4E72-BAC0-21A28B46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4C0B3-DD3B-4E87-99B6-03D03316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4E89C-2F76-4954-8FB8-FF864565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B4AE8-E54B-4970-A67A-C3B22340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9B88B-8A68-440E-9911-145FA7B4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1485-C1B7-4EBA-A190-B9106A79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26E28-603F-4A06-A189-53A249F9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F0808-DE2E-449C-8B9B-620767A6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C7B7D-14CD-47C3-AF4E-C8603EFC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A8444-20B2-401A-BE31-51E9E961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D040B-82D5-4620-81A0-FDD7D0E8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D0FDE-4A0D-4C49-9BC7-A2DCCBC0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99AF0-2EA7-46D6-AABF-AD4BACD9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7B22E-742A-4D28-98FD-4A81CC4A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4D88A-997E-4E0D-8C82-63F0515E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D2D79-0B72-4691-823B-908D62C9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0623-5851-463A-A38F-ECEFF909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22698-FCE2-4A4E-A428-C054D136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8E9A5-E08D-4035-91DC-3AF07E8C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00C69-D5D3-423E-BA1F-F7D46876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FA0C5-3FC8-4CB4-835D-61DE5338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CBFB2-4F57-49EF-912F-30DC2815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65F54-B066-4BD3-887D-2348349C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EA6FF-346C-4EB2-8219-A6A52FAD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FC8BE-D6D5-4B13-B007-B414AEFC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49BCE-1303-4045-B4B6-DE73641B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FCDA0-0302-4644-93F8-F8EED7DF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88DE-6B7D-4745-9720-F67DEA17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883E1-FA65-47C7-9636-D4CE4F47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185AA-2CFD-4812-8D0D-C25B814C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B1841-21A3-48E4-9F7C-BF0DD071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3DA2E-8155-4EFC-88FE-42DCB8EA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0BBCC-82B3-446A-A260-CE1C3368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635A1-A029-45E6-83C3-F06BDF44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53671-356D-4593-B7DA-A0419B11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FD19D-E5E6-43E6-9584-D3BAF4C7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2E328-29F0-4E67-8372-4047E7FD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321A6-6532-4783-8E87-E97715FC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F884-D1B6-4C04-95F1-0358168899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9D62-2E5A-46EB-BEB1-FCFF4D8CBC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A3B0-EE45-4975-BF15-A3D5A79851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D4F0-44EB-4055-AB58-7770EDF307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D53A-1177-476B-BB3D-223E497803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D98E-9E9A-4C08-BF39-F292D54C29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51B7-348C-4C73-A3C4-A3685C754F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EC92-1FD9-454B-B3CF-8FEA83A201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461D-747C-48C2-8918-E036358555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2BD2-F012-4F7D-AA21-C470EDC0D3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9CD2-B261-40C0-BE1C-56E03C6B85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70C0-8C9D-4D09-8BA3-2BB293C266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9F5F-3356-4A4A-BEB3-C3D8C9C236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11AE-084D-4C12-95D4-A110C7CDBE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82D5-50D4-4C89-A22A-861E57013C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95A2-0058-48AD-8BB4-FBFCC20224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FC8C-8A49-4D97-ADE5-C7B3102E00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F751-4F84-486D-A0D5-84C6D69A6D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7393-8060-4895-87A7-8790F0E388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C8F8-35F1-44B9-B000-502C426975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476B-446C-449C-84F2-3A0163939C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BCF2-BD61-4530-9B58-783BFFEFDF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62E6-5A05-451B-812F-43ADBBC509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17EA-34F0-4FC3-8DE1-AE09574841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4024-1A64-432F-A29C-687EAC4252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1FE0-C0BD-49E0-BC24-418C0F1FA9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6ECE-60C7-4DCD-9672-18F60EA477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845B-082F-4898-9063-A15170A6EE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58C7-6187-4816-86E1-7A37BFF704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12C1-FBF9-4776-ACC8-DFE6C3E762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9549-FBD9-4A4F-8CB6-C2C278F819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34C2-25F6-4E17-9CC5-6C75D9913D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ECDC-A999-409B-B95E-E14C6405CF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09C6-D859-469B-98CC-559F95AB267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E73F-D289-4BF7-8B6B-DE8196DF4E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5ED5-013E-4478-9AB2-81C4842D18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6E70-BFAE-4AAD-ADE6-F960F0E0BB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BEB0-A192-4977-8A84-D13843C775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B1C0-55BB-4C0E-92E2-836A48EBB2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EB85-4C2C-4A27-98DB-8ED421939F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3178-7AFE-4819-A874-0B4847E92B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AA4F-C8A4-48E9-902B-19CD20943F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357120" y="3102120"/>
            <a:ext cx="8561520" cy="65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85760" y="938160"/>
            <a:ext cx="8772480" cy="5334120"/>
          </a:xfrm>
          <a:prstGeom prst="rect">
            <a:avLst/>
          </a:prstGeom>
          <a:ln w="0">
            <a:noFill/>
          </a:ln>
        </p:spPr>
      </p:pic>
      <p:pic>
        <p:nvPicPr>
          <p:cNvPr id="1007" name="图片 6146" descr=""/>
          <p:cNvPicPr/>
          <p:nvPr/>
        </p:nvPicPr>
        <p:blipFill>
          <a:blip r:embed="rId2"/>
          <a:stretch/>
        </p:blipFill>
        <p:spPr>
          <a:xfrm>
            <a:off x="2957400" y="3813120"/>
            <a:ext cx="4505400" cy="10857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5651640" y="5734080"/>
            <a:ext cx="136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图片 1" descr=""/>
          <p:cNvPicPr/>
          <p:nvPr/>
        </p:nvPicPr>
        <p:blipFill>
          <a:blip r:embed="rId1"/>
          <a:stretch/>
        </p:blipFill>
        <p:spPr>
          <a:xfrm>
            <a:off x="1895400" y="2009880"/>
            <a:ext cx="5353200" cy="28382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2"/>
          <a:stretch/>
        </p:blipFill>
        <p:spPr>
          <a:xfrm>
            <a:off x="2771640" y="197316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3"/>
          <a:stretch/>
        </p:blipFill>
        <p:spPr>
          <a:xfrm>
            <a:off x="1979640" y="270828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4"/>
          <a:stretch/>
        </p:blipFill>
        <p:spPr>
          <a:xfrm>
            <a:off x="1979640" y="3386160"/>
            <a:ext cx="338436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5"/>
          <a:stretch/>
        </p:blipFill>
        <p:spPr>
          <a:xfrm>
            <a:off x="2050920" y="4105440"/>
            <a:ext cx="4465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1177920" y="647640"/>
            <a:ext cx="6788160" cy="61149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6300720" y="450864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3492360" y="508464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1547640" y="5734080"/>
            <a:ext cx="410400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5"/>
          <a:stretch/>
        </p:blipFill>
        <p:spPr>
          <a:xfrm>
            <a:off x="1619280" y="6265800"/>
            <a:ext cx="410364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图片 8198" descr=""/>
          <p:cNvPicPr/>
          <p:nvPr/>
        </p:nvPicPr>
        <p:blipFill>
          <a:blip r:embed="rId6"/>
          <a:stretch/>
        </p:blipFill>
        <p:spPr>
          <a:xfrm>
            <a:off x="1735200" y="2968560"/>
            <a:ext cx="612144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228600" y="809640"/>
            <a:ext cx="8686800" cy="52387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360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971640" y="4653000"/>
            <a:ext cx="360036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900000" y="5373720"/>
            <a:ext cx="597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00160" y="1171440"/>
            <a:ext cx="8743680" cy="45151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826920" y="3557520"/>
            <a:ext cx="475308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900000" y="4221000"/>
            <a:ext cx="475308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826920" y="4941720"/>
            <a:ext cx="5905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138240" y="771480"/>
            <a:ext cx="8867520" cy="53150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345600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826920" y="4522680"/>
            <a:ext cx="345600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755640" y="5243400"/>
            <a:ext cx="576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252360" y="223920"/>
            <a:ext cx="8639280" cy="64101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374472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1042920" y="4005360"/>
            <a:ext cx="37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900000" y="472428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5"/>
          <a:stretch/>
        </p:blipFill>
        <p:spPr>
          <a:xfrm>
            <a:off x="900000" y="5373720"/>
            <a:ext cx="37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6"/>
          <a:stretch/>
        </p:blipFill>
        <p:spPr>
          <a:xfrm>
            <a:off x="900000" y="6093000"/>
            <a:ext cx="4680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185760" y="984240"/>
            <a:ext cx="8772480" cy="5505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900000" y="348624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518508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900000" y="494172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971640" y="5589720"/>
            <a:ext cx="626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31:5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